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9F6-CE9E-430B-879D-023B4F84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53A-69E6-4381-8673-C5F9059B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52B-417A-430C-9223-F89F3950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28C-D8DF-4F20-8A97-C6AC0F5C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CFE5-6618-4FC8-A872-1ADF1B4D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E3B6-FAB3-4089-8C8A-8D8DB6AE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2163-6143-44DA-9BA7-0CBCD82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58B1-0D5C-420E-9E35-5B6B8A84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2508-A235-45B5-A024-F2B54300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6671-CF94-4342-905D-CA465E6C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2F9A-6D48-4096-B5F6-88139CED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2E8-F0C7-4998-885E-CA66C91D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18C1-F5C5-4AE2-B526-19C2D1CC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97D3-8993-4D8A-BC1A-7B3A1DFA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3D5E-B362-4992-8D2E-2D2BBABC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135C-91E5-4EBA-AA9B-AAEDFEB2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8E27-1974-49B3-B3C4-6AA387EA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5F5A-0EFE-4BBE-99AE-75F85B71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EE62-5BC5-444A-AB4A-94F541C8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2E31-98C2-4918-B22E-4039E944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3034-EA3C-40A7-8603-86F583DB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F4C3-E6E9-4BD4-870F-7928AFD3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99C-2A55-4626-BAA4-CF51063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941E-7509-41BB-9EC6-051489CC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9151-28C4-47CA-A7C2-31AA0693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3DC0-3A41-45AA-9C60-BF166582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FAB6-2243-4FB0-A1E8-15EFFD8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681C-F659-4EFD-B3DD-05F83E32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A147-C2A8-4A34-BDFC-97015EF3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1A2BE-ACE4-40C6-B678-98A55E20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65CA-741A-4300-9A17-CED1D328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1960-403C-4DAE-9052-5C009382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43CF-406A-4779-9277-52C3F6AC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230-BD02-4B78-AA08-FFD3F5BD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1C10-7A30-44C1-9F5C-E7190CC7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8B86-69F0-403F-8D6D-5CFDAEBB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B627-91D8-4C00-B7D3-33012688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EAA5-2939-4155-902E-4D953112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6E97-A828-4C74-B578-817082A4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11FF-F699-4823-8C5B-B15CB93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2C72-1CF9-46A6-A5DE-C8FA0186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FBF5-22CC-4E65-96B0-11531887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2E64-50C0-431C-88EC-020876E9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5A0B2-0C4A-4225-A98C-0CB1A04B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8E0-ED68-4585-B5AE-9DC8E7BA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8F782-BE09-496B-B6BC-35B5CF97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3CAEE-8854-4246-992B-0876E928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D9F9B-B7AB-405A-9E70-9F796F57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0A313-C40A-4EEE-B63B-1C5AA146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BB19-B89C-49F4-91E7-8FAE1F3C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333A7-7D5B-4DC9-A138-8E06489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BBCF-C470-455B-AAC4-4AA59EC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18028-99BD-49BA-87B0-8FE3902A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6779E-14ED-4ADD-91C1-301DBEA9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79614-A24C-474E-8516-0BC6F8AB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1EC-8774-4F43-8A45-600B44A8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2BBAB-45F7-4C11-9F44-A9FE0618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3D164-1BAC-44C9-A7C5-DC92A2D6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F3372-651D-429B-B788-3F57E87C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CB6C0-C56E-4E31-9D06-53F21CB6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1834A-9BE1-4FA7-803A-7EFEA40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492AD-4E4E-4EC6-872B-52CA6C0C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90BB8-03E6-4188-88A3-07B8A2C0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9F95E-4572-4777-BAF1-F462F933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B235C-E755-4194-9D33-30988B50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A0AD7-675C-48B3-B7AA-EEAEE06F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424-8FAB-4637-94D8-A479334F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CEE2-E245-41D4-AF2C-948FF358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6F81-8481-4068-A331-46B562AE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7F8E5-F741-4FA0-8F6E-423A7B44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0BC5D-3366-4E31-8E88-19966E34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31901-99C4-4526-957E-8688010D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E881-84EF-4912-8DDE-17FFA8B9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A734-0387-4BD1-B3D1-C4F5133B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6F83B-D28C-4DFC-A8FE-C2EF415C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3DAF9-9A76-4C01-A279-6F6096F5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FC079-FB64-4F94-9BFD-5E30D90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464-7748-4467-A0CB-742CA05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7F1E-F649-494B-8428-24333CB2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F3316-E8A3-4EE3-984D-DFEB4B6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60604-942E-4EEA-8A41-AE00C589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698B3-8A52-41E2-9F71-11732767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FE3EF-5CD3-49A6-A113-B9BEE0E5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C7E-ED07-411B-AD8F-812BC25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591D-5B6F-4BB6-8790-6BA7B4C5DA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5081-DFB1-4040-BDA4-9476DC41B0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3BA5-79BF-4D59-AEBD-B5FF4246C0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1AF7-A829-4752-BA60-43005E3069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7BC9-FEB0-4BA0-8F9D-2D7646F3A1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1DF8-D468-406A-9B1B-F045A77C84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4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77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57DE-3CC4-48BA-ACA6-1D11B43581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Juniors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2"/>
          <a:stretch/>
        </p:blipFill>
        <p:spPr>
          <a:xfrm>
            <a:off x="682560" y="1060560"/>
            <a:ext cx="8089920" cy="18478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225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D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Noun Review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Continue Stor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Homework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July 23 1995 I was watching 60 minutes and saw a tape of Martin Luther King Jr. giving his famous speech that began with these words I have a drea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uby:Red::Opal: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ki:snow::swim: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workshee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                           </a:t>
            </a: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ssignmen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Write a one page story in which your main character has some dramatic change, like the main character of our story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1:52:48Z</dcterms:created>
  <dc:creator>litchfield</dc:creator>
  <dc:description/>
  <dc:language>en-US</dc:language>
  <cp:lastModifiedBy>VMS</cp:lastModifiedBy>
  <dcterms:modified xsi:type="dcterms:W3CDTF">2009-09-02T16:19:07Z</dcterms:modified>
  <cp:revision>15</cp:revision>
  <dc:subject/>
  <dc:title>Sept. 2</dc:title>
</cp:coreProperties>
</file>